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DB3E-9494-4C07-8982-CE83791F1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AD12-C6D6-48C5-9E2D-9502011C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C282-AD3B-4943-AEEE-15E2B41CB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5DBB-E8FE-4666-A731-267ADD35F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0619-4120-4DBB-A156-FC8E5B7AB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0436-E5B1-4A0E-9143-21A7EF40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8CE9-8276-4055-98F3-BDE1390F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5822-2817-4468-8287-56AB544E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B4BE-F859-4C4D-B4A8-C78CA669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58C3-D128-4309-B99B-E5513CAA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1D88-8C4D-4175-A1C0-38AAE653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986A-1375-4F47-9C85-FDA3F67D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3080-919A-40C7-AF3D-4F9BA597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DEB9-8D68-4630-8699-AB0458C9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1026-4B61-4E39-B664-9D52C9E6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1E11-4529-41FA-9C2E-E90039BC1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E340-5BF2-42F1-96C2-5F9EBAFD3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0B7B-D816-4E75-872E-403A2D5D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6AE3-A40E-4D22-9E80-329DCA23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14AD-A862-40BF-85C7-C4A56EF9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FFD9-AE4D-4232-A739-AEE28C33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E997-9049-43CD-9479-24EBD430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F9B4-6F14-495B-AD99-CA7852A6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C95D-A77E-4FD4-92E1-894CA5BB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21E2-DC43-4E51-A994-1AE59E33D3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396B-2B6A-4F2D-8C6F-8F7D1DA61D8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58920" y="1628640"/>
            <a:ext cx="712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WZAJEMNE POŁOŻENIE PROSTYCH.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ODCINKI PROSTOPADŁE, PROSTE PROSTOPADŁ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REŚLENIE PROSTYCH PROSTOPADŁY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1052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1268280"/>
            <a:ext cx="69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Rysujemy prostą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1628640"/>
            <a:ext cx="52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Do narysowanej prostej przykładamy ekierk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1989000"/>
            <a:ext cx="561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Rysujemy prostą n przy drugim boku ekier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6000" y="2349360"/>
            <a:ext cx="57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Przedłużamy linijką prostą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76360" y="4870440"/>
            <a:ext cx="6551640" cy="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96360" y="45100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203640" y="3357720"/>
            <a:ext cx="1800000" cy="1512720"/>
            <a:chOff x="3203640" y="3357720"/>
            <a:chExt cx="1800000" cy="1512720"/>
          </a:xfrm>
        </p:grpSpPr>
        <p:sp>
          <p:nvSpPr>
            <p:cNvPr id="103" name=""/>
            <p:cNvSpPr/>
            <p:nvPr/>
          </p:nvSpPr>
          <p:spPr>
            <a:xfrm flipH="1">
              <a:off x="3850920" y="3934080"/>
              <a:ext cx="865080" cy="71892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3203640" y="3357720"/>
              <a:ext cx="1800000" cy="151272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5021280" y="2935440"/>
            <a:ext cx="0" cy="1935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76640" y="2935440"/>
            <a:ext cx="3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1280" y="4870440"/>
            <a:ext cx="0" cy="8985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2708280"/>
            <a:ext cx="372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5. Końcowy rysun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16000" y="585936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sta n jest prostopadła do prostej k, co zapisujemy symbolicznie 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n </a:t>
            </a:r>
            <a:r>
              <a:rPr b="1" lang="en-US" sz="1800" spc="-1" strike="noStrike">
                <a:solidFill>
                  <a:srgbClr val="6600ff"/>
                </a:solidFill>
                <a:latin typeface="Symbol"/>
                <a:ea typeface="Symbol"/>
              </a:rPr>
              <a:t>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JAK ZAPAMIĘTAĆ NAZWĘ „PROSTOPADŁA”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1052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01640" y="3564000"/>
            <a:ext cx="4005360" cy="144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37000" y="32446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62280" y="1630440"/>
            <a:ext cx="0" cy="1935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17640" y="1630440"/>
            <a:ext cx="3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62280" y="3565440"/>
            <a:ext cx="9360" cy="21132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11640" y="2124000"/>
            <a:ext cx="3510000" cy="37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yły sobie dwie pros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tóre cały dzień skakał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k, że „nogi” ich bolał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 zabaw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ierwsza stał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ro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ruga ze zmęczenia </a:t>
            </a:r>
            <a:r>
              <a:rPr b="1" i="1" lang="en-US" sz="2000" spc="-1" strike="noStrike">
                <a:solidFill>
                  <a:srgbClr val="009900"/>
                </a:solidFill>
                <a:latin typeface="Arial"/>
              </a:rPr>
              <a:t>padł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sto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padł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ODCINKI PROSTOPADŁ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71640" y="3608280"/>
            <a:ext cx="368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71640" y="1808280"/>
            <a:ext cx="0" cy="351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57360" y="3608280"/>
            <a:ext cx="2340000" cy="0"/>
          </a:xfrm>
          <a:prstGeom prst="line">
            <a:avLst/>
          </a:prstGeom>
          <a:ln w="2232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71640" y="2550960"/>
            <a:ext cx="0" cy="2205360"/>
          </a:xfrm>
          <a:prstGeom prst="line">
            <a:avLst/>
          </a:prstGeom>
          <a:ln w="2232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76280" y="3608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16280" y="360828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71640" y="239400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71640" y="4599000"/>
            <a:ext cx="5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02360" y="1854360"/>
            <a:ext cx="351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wa odcinki są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stopadł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gdy leżą na prostych prostopadł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57720" y="3789360"/>
            <a:ext cx="346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cinek LN jes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stopadł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o odcinka MK, co symbolicznie zapisujemy: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LN</a:t>
            </a:r>
            <a:r>
              <a:rPr b="1" lang="en-US" sz="2000" spc="-1" strike="noStrike">
                <a:solidFill>
                  <a:srgbClr val="6600ff"/>
                </a:solidFill>
                <a:latin typeface="Symbol"/>
                <a:ea typeface="Symbol"/>
              </a:rPr>
              <a:t>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 M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0:11:02Z</dcterms:modified>
  <cp:revision>7</cp:revision>
  <dc:subject/>
  <dc:title>Slajd 1</dc:title>
</cp:coreProperties>
</file>